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4EF-549D-49C3-A7B3-FB27DEC6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46B-DCA6-4ABA-B787-DF052E0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34D-73AB-4A07-8870-8355676A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5BA-A93F-46BF-B996-6321A2C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D35-B5DF-4CB6-A473-774EAA3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3CA-305E-4695-B280-25921A7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595-927F-4176-A6D8-7ED63934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11A-A1B8-4158-B1E9-E10F9AF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CB8-D47B-4107-A55F-1377E868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5F9-6251-456B-9BC0-762CC02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57D-5107-449A-B317-634A119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F41-4DCE-4741-9ACA-85955FB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870-80DC-47E2-9F22-A4FAC68B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95"/>
              <a:gd name="adj2" fmla="val 1565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75"/>
              <a:gd name="adj2" fmla="val 1693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95"/>
              <a:gd name="adj2" fmla="val 1789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175"/>
              <a:gd name="adj2" fmla="val 17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814"/>
              <a:gd name="adj2" fmla="val 1437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75"/>
              <a:gd name="adj2" fmla="val 17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1918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49995"/>
              <a:gd name="adj2" fmla="val 17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814"/>
              <a:gd name="adj2" fmla="val 1597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175"/>
              <a:gd name="adj2" fmla="val 185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814"/>
              <a:gd name="adj2" fmla="val 1757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814"/>
              <a:gd name="adj2" fmla="val 20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175"/>
              <a:gd name="adj2" fmla="val 162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814"/>
              <a:gd name="adj2" fmla="val 1661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175"/>
              <a:gd name="adj2" fmla="val 17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95"/>
              <a:gd name="adj2" fmla="val 162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1661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49995"/>
              <a:gd name="adj2" fmla="val 156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1789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15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CS</cp:lastModifiedBy>
  <cp:lastPrinted>2001-01-31T16:21:13Z</cp:lastPrinted>
  <dcterms:modified xsi:type="dcterms:W3CDTF">2011-12-04T19:39:03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